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A7EE-B380-45A4-9959-14A4C0B4C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55CD-A13C-455F-8746-2E1E32785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5EE4-1207-461D-BA88-99A172453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0DED-9429-4BFC-9C8D-E682457D5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95AD-A94A-46C6-9BF9-5F3E3AD05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54AF-DD26-4A5D-8F82-7B648B74B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63E3-710D-4A97-96FF-D731D20CA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B96B-8C10-4C09-8C9C-7A4CAF66E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DEFB-EB23-4449-90F9-7CBA95853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7BA5-5430-4C51-BCF0-A17A550A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246F-ED54-495D-B7DF-74956E4B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4582-D60C-4F94-BC31-D6E7629E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DCA84-C8E7-4D42-86A6-FBA62E995F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5779157naqLxMiIal_ph" descr=""/>
          <p:cNvPicPr/>
          <p:nvPr/>
        </p:nvPicPr>
        <p:blipFill>
          <a:blip r:embed="rId1"/>
          <a:stretch/>
        </p:blipFill>
        <p:spPr>
          <a:xfrm>
            <a:off x="3581280" y="0"/>
            <a:ext cx="56977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685800"/>
            <a:ext cx="3352680" cy="75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ــا أبانــا الحق إبنُكَ المَذبوحْ قربانَ فِـد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فاقبَـــلْ مَـن ذاق ليبرِّرَنــا أهــوالَ  الرَدى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0092187KzkgEjNdws_ph" descr=""/>
          <p:cNvPicPr/>
          <p:nvPr/>
        </p:nvPicPr>
        <p:blipFill>
          <a:blip r:embed="rId1"/>
          <a:stretch/>
        </p:blipFill>
        <p:spPr>
          <a:xfrm>
            <a:off x="3581280" y="0"/>
            <a:ext cx="55627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8600" y="0"/>
            <a:ext cx="2971800" cy="83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إِقبَـلْ منـا هـذا القربـانْ واصفَح عَنـــ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وانـسَ خطايــا ضِـدَ جَلالـَـك صدرَت منــا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4684030QzQKrpGfyW_ph" descr=""/>
          <p:cNvPicPr/>
          <p:nvPr/>
        </p:nvPicPr>
        <p:blipFill>
          <a:blip r:embed="rId1"/>
          <a:stretch/>
        </p:blipFill>
        <p:spPr>
          <a:xfrm>
            <a:off x="3429000" y="0"/>
            <a:ext cx="5715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0"/>
            <a:ext cx="2743200" cy="70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أنظرْ يا ربْ لِخطيئتِنا وذبيحتِنـ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فذبيحتُنـا أعلى جـداً مـن خطيئتِنــــا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371600"/>
            <a:ext cx="358128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Simplified Arabic"/>
              </a:rPr>
              <a:t>    </a:t>
            </a:r>
            <a:r>
              <a:rPr b="1" lang="ar-SA" sz="4400" spc="-1" strike="noStrike">
                <a:solidFill>
                  <a:srgbClr val="dddddd"/>
                </a:solidFill>
                <a:latin typeface="Times New Roman"/>
                <a:cs typeface="Simplified Arabic"/>
              </a:rPr>
              <a:t>دمُـهُ المُهــرَقْ فوقَ الجلجلــة  ليخلصَنـا</a:t>
            </a:r>
            <a:r>
              <a:rPr b="1" lang="en-US" sz="4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     </a:t>
            </a:r>
            <a:r>
              <a:rPr b="1" lang="ar-SA" sz="44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يَضـرَعُ عنّـا فاسمَـعْ لأجلِـهِ</a:t>
            </a:r>
            <a:r>
              <a:rPr b="1" lang="en-US" sz="4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1" lang="ar-SA" sz="44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صوتَ صلاتِنــا</a:t>
            </a:r>
            <a:r>
              <a:rPr b="0" lang="ar-SA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34031060nWgdwk_ph" descr=""/>
          <p:cNvPicPr/>
          <p:nvPr/>
        </p:nvPicPr>
        <p:blipFill>
          <a:blip r:embed="rId1"/>
          <a:stretch/>
        </p:blipFill>
        <p:spPr>
          <a:xfrm>
            <a:off x="3840120" y="0"/>
            <a:ext cx="5699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t11" descr=""/>
          <p:cNvPicPr/>
          <p:nvPr/>
        </p:nvPicPr>
        <p:blipFill>
          <a:blip r:embed="rId1"/>
          <a:stretch/>
        </p:blipFill>
        <p:spPr>
          <a:xfrm>
            <a:off x="3886200" y="0"/>
            <a:ext cx="53244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28600" y="304920"/>
            <a:ext cx="3276720" cy="83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ccffcc"/>
                </a:solidFill>
                <a:latin typeface="Times New Roman"/>
                <a:cs typeface="Simplified Arabic"/>
              </a:rPr>
              <a:t>ألمُ المساميـرْ جُـرحُ الحربـة قاسـى حبيبَك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ccffcc"/>
                </a:solidFill>
                <a:latin typeface="Times New Roman"/>
                <a:cs typeface="Times New Roman"/>
              </a:rPr>
              <a:t>في آلامِـــهِ مـا يُحيينـــا ويُرضــي قلبَـكْ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0T06:33:13Z</dcterms:created>
  <dc:creator>SUZANNE.MD</dc:creator>
  <dc:description/>
  <dc:language>en-US</dc:language>
  <cp:lastModifiedBy>SUZANNE.MD</cp:lastModifiedBy>
  <dcterms:modified xsi:type="dcterms:W3CDTF">2003-03-10T06:59:55Z</dcterms:modified>
  <cp:revision>1</cp:revision>
  <dc:subject/>
  <dc:title>PowerPoint Presentation</dc:title>
</cp:coreProperties>
</file>